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17.jpeg" ContentType="image/jpeg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3.wmf" ContentType="image/x-wmf"/>
  <Override PartName="/ppt/media/image26.wmf" ContentType="image/x-wmf"/>
  <Override PartName="/ppt/media/image24.png" ContentType="image/png"/>
  <Override PartName="/ppt/media/image23.wmf" ContentType="image/x-wmf"/>
  <Override PartName="/ppt/media/image22.png" ContentType="image/png"/>
  <Override PartName="/ppt/media/image18.jpeg" ContentType="image/jpeg"/>
  <Override PartName="/ppt/media/image21.wmf" ContentType="image/x-wmf"/>
  <Override PartName="/ppt/media/image1.jpeg" ContentType="image/jpeg"/>
  <Override PartName="/ppt/media/image19.png" ContentType="image/png"/>
  <Override PartName="/ppt/media/image16.wmf" ContentType="image/x-wmf"/>
  <Override PartName="/ppt/media/image15.png" ContentType="image/png"/>
  <Override PartName="/ppt/media/image14.wmf" ContentType="image/x-wmf"/>
  <Override PartName="/ppt/media/image4.wmf" ContentType="image/x-wmf"/>
  <Override PartName="/ppt/media/image27.wmf" ContentType="image/x-wmf"/>
  <Override PartName="/ppt/media/image2.jpeg" ContentType="image/jpeg"/>
  <Override PartName="/ppt/media/image2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07D70-5F23-4B93-A4E7-F4D21154A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C5DE8-9DE9-4569-9473-C943B50809F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F0CA-5A42-4FE7-BBF7-DC77BEEEE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FADE-451B-4298-B91E-CECE345C6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06E5-CE1F-4121-8E89-B1F82A13E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3CD0-EE13-41FD-A62A-E7FD277E4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B7C9-7646-463A-848A-1290F97C0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101C-8359-4217-A425-C58F5E4FE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DFA2-8B15-4E2B-9BB7-C5DE20DE2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F841-6799-4A74-BF0A-01B6F10D2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3981-F94D-4CBA-8700-1743594E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B604-C149-4AEB-8981-E972F6DC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04EA-3042-4077-802A-F1932902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4650-D556-4ACF-9354-E321E364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2B7A8-8B56-4250-92F7-9C1E8E6EA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stopwatch.onlineclock.net/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28600" y="228600"/>
            <a:ext cx="8686800" cy="20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uesda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5195880"/>
            <a:ext cx="4648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5/4/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2438280"/>
            <a:ext cx="7467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t Wheelin’ 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distance/time graphs a period of time when an object is not moving is shown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horizontal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ertical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ne goes back to the x-ax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ne goes back to the y-ax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AnswerNow"/>
          <p:cNvGrpSpPr/>
          <p:nvPr/>
        </p:nvGrpSpPr>
        <p:grpSpPr>
          <a:xfrm>
            <a:off x="3460680" y="6286680"/>
            <a:ext cx="2222640" cy="444240"/>
            <a:chOff x="3460680" y="6286680"/>
            <a:chExt cx="2222640" cy="444240"/>
          </a:xfrm>
        </p:grpSpPr>
        <p:sp>
          <p:nvSpPr>
            <p:cNvPr id="120" name="ANShape"/>
            <p:cNvSpPr/>
            <p:nvPr/>
          </p:nvSpPr>
          <p:spPr>
            <a:xfrm>
              <a:off x="3460680" y="6286680"/>
              <a:ext cx="2222640" cy="444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8c3d91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NText"/>
            <p:cNvSpPr/>
            <p:nvPr/>
          </p:nvSpPr>
          <p:spPr>
            <a:xfrm>
              <a:off x="3460680" y="6286680"/>
              <a:ext cx="222264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??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an object speeds up, this is shown on a distance-time graph a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ecrease in the slop of the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crease along the x-ax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crease along the y-ax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crease in slope of the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AnswerNow"/>
          <p:cNvGrpSpPr/>
          <p:nvPr/>
        </p:nvGrpSpPr>
        <p:grpSpPr>
          <a:xfrm>
            <a:off x="3460680" y="6286680"/>
            <a:ext cx="2222640" cy="444240"/>
            <a:chOff x="3460680" y="6286680"/>
            <a:chExt cx="2222640" cy="444240"/>
          </a:xfrm>
        </p:grpSpPr>
        <p:sp>
          <p:nvSpPr>
            <p:cNvPr id="127" name="ANShape"/>
            <p:cNvSpPr/>
            <p:nvPr/>
          </p:nvSpPr>
          <p:spPr>
            <a:xfrm>
              <a:off x="3460680" y="6286680"/>
              <a:ext cx="2222640" cy="444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8c3d91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NText"/>
            <p:cNvSpPr/>
            <p:nvPr/>
          </p:nvSpPr>
          <p:spPr>
            <a:xfrm>
              <a:off x="3460680" y="6286680"/>
              <a:ext cx="222264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??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 object starts to move back to where it came from this is shown on a distance-time graph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horizontal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ertical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lope upw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lope downw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AnswerNow"/>
          <p:cNvGrpSpPr/>
          <p:nvPr/>
        </p:nvGrpSpPr>
        <p:grpSpPr>
          <a:xfrm>
            <a:off x="3460680" y="6286680"/>
            <a:ext cx="2222640" cy="444240"/>
            <a:chOff x="3460680" y="6286680"/>
            <a:chExt cx="2222640" cy="444240"/>
          </a:xfrm>
        </p:grpSpPr>
        <p:sp>
          <p:nvSpPr>
            <p:cNvPr id="134" name="ANShape"/>
            <p:cNvSpPr/>
            <p:nvPr/>
          </p:nvSpPr>
          <p:spPr>
            <a:xfrm>
              <a:off x="3460680" y="6286680"/>
              <a:ext cx="2222640" cy="444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8c3d91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NText"/>
            <p:cNvSpPr/>
            <p:nvPr/>
          </p:nvSpPr>
          <p:spPr>
            <a:xfrm>
              <a:off x="3460680" y="6286680"/>
              <a:ext cx="222264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??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am Sc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27080" y="1666800"/>
          <a:ext cx="8889840" cy="4556160"/>
        </p:xfrm>
        <a:graphic>
          <a:graphicData uri="http://schemas.openxmlformats.org/drawingml/2006/table">
            <a:tbl>
              <a:tblPr/>
              <a:tblGrid>
                <a:gridCol w="1269720"/>
                <a:gridCol w="3175200"/>
                <a:gridCol w="1269720"/>
                <a:gridCol w="3175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this graph for the next 2 questions…</a:t>
            </a:r>
            <a:br>
              <a:rPr sz="2800"/>
            </a:br>
            <a:br>
              <a:rPr sz="1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mbulance, a car, and a bicycle approach a stop light.  Remember, ambulances are allowed to go through red lights carefully, and assume the car is travel at a higher speed than the bicycle at the st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362320" y="2895480"/>
            <a:ext cx="3882240" cy="3569040"/>
            <a:chOff x="2362320" y="2895480"/>
            <a:chExt cx="3882240" cy="3569040"/>
          </a:xfrm>
        </p:grpSpPr>
        <p:grpSp>
          <p:nvGrpSpPr>
            <p:cNvPr id="140" name=""/>
            <p:cNvGrpSpPr/>
            <p:nvPr/>
          </p:nvGrpSpPr>
          <p:grpSpPr>
            <a:xfrm>
              <a:off x="2362320" y="2895480"/>
              <a:ext cx="3882240" cy="3569040"/>
              <a:chOff x="2362320" y="2895480"/>
              <a:chExt cx="3882240" cy="3569040"/>
            </a:xfrm>
          </p:grpSpPr>
          <p:sp>
            <p:nvSpPr>
              <p:cNvPr id="141" name=""/>
              <p:cNvSpPr/>
              <p:nvPr/>
            </p:nvSpPr>
            <p:spPr>
              <a:xfrm>
                <a:off x="2922840" y="2895480"/>
                <a:ext cx="0" cy="34372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2464200" y="6103440"/>
                <a:ext cx="378036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381120" y="6096240"/>
                <a:ext cx="2290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Time (s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16200000">
                <a:off x="1401840" y="4232160"/>
                <a:ext cx="2289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istance (m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 flipV="1">
              <a:off x="2955960" y="3809880"/>
              <a:ext cx="1158840" cy="22860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2955960" y="4952520"/>
              <a:ext cx="777960" cy="11430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2955960" y="4647960"/>
              <a:ext cx="2454120" cy="144756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394240" y="4648320"/>
              <a:ext cx="62568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3718080" y="4648320"/>
              <a:ext cx="1082520" cy="30456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784760" y="4648320"/>
              <a:ext cx="62532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4114800" y="2895480"/>
              <a:ext cx="1905120" cy="9144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962520" y="342900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962520" y="451008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962520" y="502920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answer correctly describes the li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 1 is the car, line 2 the bicycle, and line 3 the ambu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 3 is the car, line 2 is the bicycle, and line 1 the ambu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 2 is the car, line 1 the bicycle, and line 3 the ambu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 2 is the car, line 3 the bicycle, and line 1 the ambu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5029200" y="1828800"/>
            <a:ext cx="3882240" cy="3569040"/>
            <a:chOff x="5029200" y="1828800"/>
            <a:chExt cx="3882240" cy="3569040"/>
          </a:xfrm>
        </p:grpSpPr>
        <p:grpSp>
          <p:nvGrpSpPr>
            <p:cNvPr id="158" name=""/>
            <p:cNvGrpSpPr/>
            <p:nvPr/>
          </p:nvGrpSpPr>
          <p:grpSpPr>
            <a:xfrm>
              <a:off x="5029200" y="1828800"/>
              <a:ext cx="3882240" cy="3569040"/>
              <a:chOff x="5029200" y="1828800"/>
              <a:chExt cx="3882240" cy="3569040"/>
            </a:xfrm>
          </p:grpSpPr>
          <p:sp>
            <p:nvSpPr>
              <p:cNvPr id="159" name=""/>
              <p:cNvSpPr/>
              <p:nvPr/>
            </p:nvSpPr>
            <p:spPr>
              <a:xfrm>
                <a:off x="5589720" y="1828800"/>
                <a:ext cx="0" cy="34372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5131080" y="5036760"/>
                <a:ext cx="378036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048000" y="5029560"/>
                <a:ext cx="2290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Time (s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16200000">
                <a:off x="4068720" y="3165480"/>
                <a:ext cx="2289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istance (m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 flipV="1">
              <a:off x="5622840" y="2743200"/>
              <a:ext cx="1158840" cy="22860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5622840" y="3885840"/>
              <a:ext cx="777960" cy="11430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5622840" y="3581280"/>
              <a:ext cx="2454120" cy="144756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061120" y="3581640"/>
              <a:ext cx="62568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6384960" y="3581640"/>
              <a:ext cx="1082520" cy="30456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451640" y="3581640"/>
              <a:ext cx="62532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6781680" y="1828800"/>
              <a:ext cx="1905120" cy="9144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629400" y="236232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629400" y="344340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29400" y="396252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73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5" name="AnswerNow"/>
          <p:cNvGrpSpPr/>
          <p:nvPr/>
        </p:nvGrpSpPr>
        <p:grpSpPr>
          <a:xfrm>
            <a:off x="2044800" y="6286680"/>
            <a:ext cx="2222280" cy="444240"/>
            <a:chOff x="2044800" y="6286680"/>
            <a:chExt cx="2222280" cy="444240"/>
          </a:xfrm>
        </p:grpSpPr>
        <p:sp>
          <p:nvSpPr>
            <p:cNvPr id="176" name="ANShape"/>
            <p:cNvSpPr/>
            <p:nvPr/>
          </p:nvSpPr>
          <p:spPr>
            <a:xfrm>
              <a:off x="2044800" y="6286680"/>
              <a:ext cx="2222280" cy="444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8c3d91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NText"/>
            <p:cNvSpPr/>
            <p:nvPr/>
          </p:nvSpPr>
          <p:spPr>
            <a:xfrm>
              <a:off x="2044800" y="6286680"/>
              <a:ext cx="22222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??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looking at the graph of vehicles arriving at the traffic light, which of the following statements is corr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r is the first vehicle to s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e of the vehicles s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icycle travels further than the c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r travels at the highest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956120" y="1994040"/>
            <a:ext cx="3882240" cy="3569040"/>
            <a:chOff x="4956120" y="1994040"/>
            <a:chExt cx="3882240" cy="3569040"/>
          </a:xfrm>
        </p:grpSpPr>
        <p:grpSp>
          <p:nvGrpSpPr>
            <p:cNvPr id="181" name=""/>
            <p:cNvGrpSpPr/>
            <p:nvPr/>
          </p:nvGrpSpPr>
          <p:grpSpPr>
            <a:xfrm>
              <a:off x="4956120" y="1994040"/>
              <a:ext cx="3882240" cy="3569040"/>
              <a:chOff x="4956120" y="1994040"/>
              <a:chExt cx="3882240" cy="3569040"/>
            </a:xfrm>
          </p:grpSpPr>
          <p:sp>
            <p:nvSpPr>
              <p:cNvPr id="182" name=""/>
              <p:cNvSpPr/>
              <p:nvPr/>
            </p:nvSpPr>
            <p:spPr>
              <a:xfrm>
                <a:off x="5516640" y="1994040"/>
                <a:ext cx="0" cy="34372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5058000" y="5202000"/>
                <a:ext cx="378036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974920" y="5194800"/>
                <a:ext cx="2290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Time (s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16200000">
                <a:off x="3995640" y="3330720"/>
                <a:ext cx="2289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istance (m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"/>
            <p:cNvSpPr/>
            <p:nvPr/>
          </p:nvSpPr>
          <p:spPr>
            <a:xfrm flipV="1">
              <a:off x="5549760" y="2908440"/>
              <a:ext cx="1158840" cy="22860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5549760" y="4051080"/>
              <a:ext cx="777960" cy="11430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5549760" y="3746520"/>
              <a:ext cx="2454120" cy="144756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88040" y="3746880"/>
              <a:ext cx="62568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6311880" y="3746880"/>
              <a:ext cx="1082520" cy="30456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378560" y="3746880"/>
              <a:ext cx="62532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6708600" y="1994040"/>
              <a:ext cx="1905120" cy="9144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556320" y="252756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556320" y="360864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556320" y="412776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9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8" name="AnswerNow"/>
          <p:cNvGrpSpPr/>
          <p:nvPr/>
        </p:nvGrpSpPr>
        <p:grpSpPr>
          <a:xfrm>
            <a:off x="2044800" y="6286680"/>
            <a:ext cx="2222280" cy="444240"/>
            <a:chOff x="2044800" y="6286680"/>
            <a:chExt cx="2222280" cy="444240"/>
          </a:xfrm>
        </p:grpSpPr>
        <p:sp>
          <p:nvSpPr>
            <p:cNvPr id="199" name="ANShape"/>
            <p:cNvSpPr/>
            <p:nvPr/>
          </p:nvSpPr>
          <p:spPr>
            <a:xfrm>
              <a:off x="2044800" y="6286680"/>
              <a:ext cx="2222280" cy="444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8c3d91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NText"/>
            <p:cNvSpPr/>
            <p:nvPr/>
          </p:nvSpPr>
          <p:spPr>
            <a:xfrm>
              <a:off x="2044800" y="6286680"/>
              <a:ext cx="22222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??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distance-time graph shows how an object moves for 5 seconds.  Which of the following statements is corr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bject is moving for the whole of the 5 sec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bject moves a total distance of 10 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bject is stationary for 3 sec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bjects final speed is 2 m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34011" t="34003" r="39376" b="36001"/>
          <a:stretch/>
        </p:blipFill>
        <p:spPr>
          <a:xfrm>
            <a:off x="4419720" y="1371600"/>
            <a:ext cx="4572000" cy="322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4" name="TPChart"/>
          <p:cNvGraphicFramePr/>
          <p:nvPr/>
        </p:nvGraphicFramePr>
        <p:xfrm>
          <a:off x="4419720" y="1371600"/>
          <a:ext cx="4572000" cy="542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5" name="TPChart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19720" y="1371600"/>
                    <a:ext cx="4572000" cy="54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6" name="AnswerNow"/>
          <p:cNvGrpSpPr/>
          <p:nvPr/>
        </p:nvGrpSpPr>
        <p:grpSpPr>
          <a:xfrm>
            <a:off x="2133720" y="6286680"/>
            <a:ext cx="2222280" cy="444240"/>
            <a:chOff x="2133720" y="6286680"/>
            <a:chExt cx="2222280" cy="444240"/>
          </a:xfrm>
        </p:grpSpPr>
        <p:sp>
          <p:nvSpPr>
            <p:cNvPr id="207" name="ANShape"/>
            <p:cNvSpPr/>
            <p:nvPr/>
          </p:nvSpPr>
          <p:spPr>
            <a:xfrm>
              <a:off x="2133720" y="6286680"/>
              <a:ext cx="2222280" cy="444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8c3d91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NText"/>
            <p:cNvSpPr/>
            <p:nvPr/>
          </p:nvSpPr>
          <p:spPr>
            <a:xfrm>
              <a:off x="2133720" y="6286680"/>
              <a:ext cx="22222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??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distance-time graph shows how an object moves for 5 seconds.  Which of the following statements is corr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bject moves forwards for a total of 3 sec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bject moves a total distance of 10 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bject travels fastest between 4 and 5 sec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bject moves backwards between 3 and 4 sec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33752" t="34003" r="39376" b="36001"/>
          <a:stretch/>
        </p:blipFill>
        <p:spPr>
          <a:xfrm>
            <a:off x="4419720" y="1371600"/>
            <a:ext cx="4495680" cy="3137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2" name="TPChart"/>
          <p:cNvGraphicFramePr/>
          <p:nvPr/>
        </p:nvGraphicFramePr>
        <p:xfrm>
          <a:off x="4419720" y="1371600"/>
          <a:ext cx="4572000" cy="542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3" name="TPChart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19720" y="1371600"/>
                    <a:ext cx="4572000" cy="54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4" name="AnswerNow"/>
          <p:cNvGrpSpPr/>
          <p:nvPr/>
        </p:nvGrpSpPr>
        <p:grpSpPr>
          <a:xfrm>
            <a:off x="1981080" y="6286680"/>
            <a:ext cx="2222640" cy="444240"/>
            <a:chOff x="1981080" y="6286680"/>
            <a:chExt cx="2222640" cy="444240"/>
          </a:xfrm>
        </p:grpSpPr>
        <p:sp>
          <p:nvSpPr>
            <p:cNvPr id="215" name="ANShape"/>
            <p:cNvSpPr/>
            <p:nvPr/>
          </p:nvSpPr>
          <p:spPr>
            <a:xfrm>
              <a:off x="1981080" y="6286680"/>
              <a:ext cx="2222640" cy="444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8c3d91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NText"/>
            <p:cNvSpPr/>
            <p:nvPr/>
          </p:nvSpPr>
          <p:spPr>
            <a:xfrm>
              <a:off x="1981080" y="6286680"/>
              <a:ext cx="222264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??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am Sc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27080" y="1666800"/>
          <a:ext cx="8889840" cy="4556160"/>
        </p:xfrm>
        <a:graphic>
          <a:graphicData uri="http://schemas.openxmlformats.org/drawingml/2006/table">
            <a:tbl>
              <a:tblPr/>
              <a:tblGrid>
                <a:gridCol w="1269720"/>
                <a:gridCol w="3175200"/>
                <a:gridCol w="1269720"/>
                <a:gridCol w="3175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s Project &amp; 4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Quarter Pro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3520" y="1538280"/>
            <a:ext cx="3871800" cy="3886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1104840" y="5638680"/>
            <a:ext cx="2629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ousetra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ac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410080" y="5638680"/>
            <a:ext cx="2629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GM-in-a-Bo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"Magic 8-Ball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rcRect l="12461" t="1962" r="23708" b="3921"/>
          <a:stretch/>
        </p:blipFill>
        <p:spPr>
          <a:xfrm>
            <a:off x="4876920" y="1523880"/>
            <a:ext cx="3733560" cy="381024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76320" y="76320"/>
            <a:ext cx="2895120" cy="635040"/>
            <a:chOff x="76320" y="76320"/>
            <a:chExt cx="2895120" cy="635040"/>
          </a:xfrm>
        </p:grpSpPr>
        <p:pic>
          <p:nvPicPr>
            <p:cNvPr id="57" name="" descr=""/>
            <p:cNvPicPr/>
            <p:nvPr/>
          </p:nvPicPr>
          <p:blipFill>
            <a:blip r:embed="rId3"/>
            <a:stretch/>
          </p:blipFill>
          <p:spPr>
            <a:xfrm>
              <a:off x="76320" y="76320"/>
              <a:ext cx="66816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 txBox="1"/>
            <p:nvPr/>
          </p:nvSpPr>
          <p:spPr>
            <a:xfrm>
              <a:off x="761040" y="153360"/>
              <a:ext cx="2210400" cy="507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200"/>
                      </a:gs>
                      <a:gs pos="100000">
                        <a:srgbClr val="4d0808"/>
                      </a:gs>
                    </a:gsLst>
                    <a:lin ang="5400000"/>
                  </a:gradFill>
                  <a:latin typeface="Broadway"/>
                </a:rPr>
                <a:t>Warm-Up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Broadway"/>
                <a:ea typeface="Broadway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685800" y="2209680"/>
            <a:ext cx="7696080" cy="10688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Y QUESTIONS ABOUT EITHER OF OUR UPCOMING PROJECTS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icipant Sc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27080" y="1666800"/>
          <a:ext cx="8889840" cy="4556160"/>
        </p:xfrm>
        <a:graphic>
          <a:graphicData uri="http://schemas.openxmlformats.org/drawingml/2006/table">
            <a:tbl>
              <a:tblPr/>
              <a:tblGrid>
                <a:gridCol w="1269720"/>
                <a:gridCol w="3175200"/>
                <a:gridCol w="1269720"/>
                <a:gridCol w="3175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ing Speed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speed of the marble traveling down the marble ru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we need to know to figure it o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an average speed or instantaneous sp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you k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rcRect l="28494" t="16669" r="31022" b="20000"/>
          <a:stretch/>
        </p:blipFill>
        <p:spPr>
          <a:xfrm>
            <a:off x="152280" y="152280"/>
            <a:ext cx="1027080" cy="12193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95880" y="4570560"/>
            <a:ext cx="3048120" cy="22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14480" y="609480"/>
            <a:ext cx="8800920" cy="58676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1981080" y="4267080"/>
            <a:ext cx="80496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40 m/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819520" y="2666880"/>
            <a:ext cx="80460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0 m/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029200" y="3809880"/>
            <a:ext cx="80496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60 m/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419720" y="2286000"/>
            <a:ext cx="80460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0 m/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324480" y="2438280"/>
            <a:ext cx="80496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00 m/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7772400" y="380880"/>
            <a:ext cx="80496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0 m/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76320" y="38160"/>
            <a:ext cx="746748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peed Review:  How fast is the ca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oing in each segment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"/>
              </a:rPr>
              <a:t>Hot Wheelin’ La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your veh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 the questions on your lab work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ce your veh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 the procedure exactly – every trial needs a racer, timekeeper, and jud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table on lab worksheet and make calculations to determine your vehicle’s spe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line-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your vehicles speed on a post-it note and put them in order from fastest to slowest on the ledge in the front of the ro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33200" y="133200"/>
            <a:ext cx="169560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43000" y="763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cc33"/>
                </a:solidFill>
                <a:latin typeface="Times New Roman"/>
              </a:rPr>
              <a:t>HOMEWOR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90440" y="2057040"/>
            <a:ext cx="8686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Distance-Time Graph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Complete back of Review Workshee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200400" y="4876920"/>
            <a:ext cx="2712960" cy="14475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0" y="6324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py daily </a:t>
            </a:r>
            <a:r>
              <a:rPr b="0" lang="en-US" sz="2400" spc="-1" strike="noStrike">
                <a:solidFill>
                  <a:srgbClr val="33cc33"/>
                </a:solidFill>
                <a:latin typeface="Tahoma"/>
              </a:rPr>
              <a:t>homewor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o your agen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52280" y="1295280"/>
            <a:ext cx="8763120" cy="3276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143000" y="763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cc33"/>
                </a:solidFill>
                <a:latin typeface="Times New Roman"/>
              </a:rPr>
              <a:t>HOMEWOR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90440" y="2010240"/>
            <a:ext cx="86868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Write a Motion Stor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PART I – Guidelines on Workshee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3200400" y="4876920"/>
            <a:ext cx="2712960" cy="144756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0" y="6324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py daily </a:t>
            </a:r>
            <a:r>
              <a:rPr b="0" lang="en-US" sz="2400" spc="-1" strike="noStrike">
                <a:solidFill>
                  <a:srgbClr val="33cc33"/>
                </a:solidFill>
                <a:latin typeface="Tahoma"/>
              </a:rPr>
              <a:t>homewor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o your agen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52280" y="1295280"/>
            <a:ext cx="8763120" cy="3276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838080" y="1055520"/>
            <a:ext cx="2824200" cy="51753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rcRect l="0" t="0" r="0" b="32974"/>
          <a:stretch/>
        </p:blipFill>
        <p:spPr>
          <a:xfrm>
            <a:off x="4267080" y="790560"/>
            <a:ext cx="2868840" cy="37180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5943600" y="0"/>
            <a:ext cx="3200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: 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: 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76040" y="152280"/>
            <a:ext cx="5691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istance-Time Graph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0" name=""/>
          <p:cNvSpPr/>
          <p:nvPr/>
        </p:nvSpPr>
        <p:spPr>
          <a:xfrm>
            <a:off x="152280" y="1353960"/>
            <a:ext cx="137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 upward slope tells us an object is moving awa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3335400"/>
            <a:ext cx="137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downward slope tells us the object is moving clos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28800" y="762120"/>
            <a:ext cx="182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straight line tells us an object is moving at a constant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002200" y="685800"/>
            <a:ext cx="1905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curved line tells us an object is accelerating or decelera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6320" y="4906800"/>
            <a:ext cx="1523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horizontal line in the middle here tells us the object stopped moving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graph"/>
          <p:cNvPicPr/>
          <p:nvPr/>
        </p:nvPicPr>
        <p:blipFill>
          <a:blip r:embed="rId3"/>
          <a:stretch/>
        </p:blipFill>
        <p:spPr>
          <a:xfrm>
            <a:off x="4724280" y="4432320"/>
            <a:ext cx="2057400" cy="16462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6629400" y="130824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s object is moving away and speeding u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629400" y="290844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s object is moving closer and speeding u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629400" y="4905360"/>
            <a:ext cx="1905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s object is moving closer and slowing dow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6064200"/>
            <a:ext cx="91440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direction the line is heading determines whether an object is coming closer or moving a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slope of the line tells you how fast the object is moving (steeper = faste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curved line indicates acceleration or decele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rcRect l="5002" t="34372" r="20002" b="0"/>
          <a:stretch/>
        </p:blipFill>
        <p:spPr>
          <a:xfrm>
            <a:off x="3352680" y="4724280"/>
            <a:ext cx="5715000" cy="17528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rcRect l="0" t="25443" r="13337" b="0"/>
          <a:stretch/>
        </p:blipFill>
        <p:spPr>
          <a:xfrm>
            <a:off x="3124080" y="2666880"/>
            <a:ext cx="5867640" cy="16002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rcRect l="0" t="45659" r="9374" b="0"/>
          <a:stretch/>
        </p:blipFill>
        <p:spPr>
          <a:xfrm>
            <a:off x="3276720" y="762120"/>
            <a:ext cx="5867280" cy="152388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76320" y="4699080"/>
            <a:ext cx="33526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3.  The price of a certain CD varied over a period of time. It started high and remained the same for a period of time. Then it had a steady decrease until it reached an all time low, where it stayed the same for a period of time. In the end, the stock rose fast to a moderate price, where it remained for the remaining ti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6320" y="2743200"/>
            <a:ext cx="30477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post office charges $.37 for any mail up to an ounce in weight. After that the charge is $.23 for each additional ounce or part of an ounce. For instance, if it weights 1.1 ounces or 1.9 ounces, it will cost the same, $.6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6320" y="507960"/>
            <a:ext cx="32004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effery left his home headed toward the school. He started out at a steady moderate pace until he got to a red light. While stopped at the light, he realized that he had forgotten his math homework. He turned around and headed back home at a faster pace. Then he drove to school at a fast pace without stopping on the wa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rcle the graph that best matches each scenario be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"/>
          <p:cNvGrpSpPr/>
          <p:nvPr/>
        </p:nvGrpSpPr>
        <p:grpSpPr>
          <a:xfrm>
            <a:off x="4800600" y="1523880"/>
            <a:ext cx="4038480" cy="3733920"/>
            <a:chOff x="4800600" y="1523880"/>
            <a:chExt cx="4038480" cy="3733920"/>
          </a:xfrm>
        </p:grpSpPr>
        <p:sp>
          <p:nvSpPr>
            <p:cNvPr id="268" name=""/>
            <p:cNvSpPr/>
            <p:nvPr/>
          </p:nvSpPr>
          <p:spPr>
            <a:xfrm>
              <a:off x="4800600" y="1523880"/>
              <a:ext cx="4038480" cy="3733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4954680" y="1676520"/>
              <a:ext cx="3655080" cy="3381120"/>
              <a:chOff x="4954680" y="1676520"/>
              <a:chExt cx="3655080" cy="3381120"/>
            </a:xfrm>
          </p:grpSpPr>
          <p:sp>
            <p:nvSpPr>
              <p:cNvPr id="270" name=""/>
              <p:cNvSpPr/>
              <p:nvPr/>
            </p:nvSpPr>
            <p:spPr>
              <a:xfrm>
                <a:off x="5482440" y="1676520"/>
                <a:ext cx="0" cy="32356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5050440" y="4696200"/>
                <a:ext cx="355932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914080" y="4689360"/>
                <a:ext cx="2156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Time (s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16200000">
                <a:off x="4061160" y="2924280"/>
                <a:ext cx="2154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istance (m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 flipV="1">
              <a:off x="6237360" y="1787400"/>
              <a:ext cx="1077840" cy="247968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75" name="TPChart"/>
          <p:cNvGraphicFramePr/>
          <p:nvPr/>
        </p:nvGraphicFramePr>
        <p:xfrm>
          <a:off x="4572000" y="1600200"/>
          <a:ext cx="457200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600200"/>
                    <a:ext cx="45720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object doing according to the graph bel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ResponseCounter"/>
          <p:cNvGrpSpPr/>
          <p:nvPr/>
        </p:nvGrpSpPr>
        <p:grpSpPr>
          <a:xfrm>
            <a:off x="127080" y="1308240"/>
            <a:ext cx="1511280" cy="5422320"/>
            <a:chOff x="127080" y="1308240"/>
            <a:chExt cx="1511280" cy="5422320"/>
          </a:xfrm>
        </p:grpSpPr>
        <p:sp>
          <p:nvSpPr>
            <p:cNvPr id="279" name="RCPole"/>
            <p:cNvSpPr/>
            <p:nvPr/>
          </p:nvSpPr>
          <p:spPr>
            <a:xfrm>
              <a:off x="317520" y="1523880"/>
              <a:ext cx="0" cy="50796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CFlag"/>
            <p:cNvSpPr/>
            <p:nvPr/>
          </p:nvSpPr>
          <p:spPr>
            <a:xfrm>
              <a:off x="368280" y="5841720"/>
              <a:ext cx="1270080" cy="761760"/>
            </a:xfrm>
            <a:custGeom>
              <a:avLst/>
              <a:gdLst>
                <a:gd name="textAreaLeft" fmla="*/ 0 w 1270080"/>
                <a:gd name="textAreaRight" fmla="*/ 1270440 w 1270080"/>
                <a:gd name="textAreaTop" fmla="*/ 98640 h 761760"/>
                <a:gd name="textAreaBottom" fmla="*/ 66312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CTop"/>
            <p:cNvSpPr/>
            <p:nvPr/>
          </p:nvSpPr>
          <p:spPr>
            <a:xfrm>
              <a:off x="127080" y="1308240"/>
              <a:ext cx="381240" cy="2538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Tahoma"/>
                </a:rPr>
                <a:t>2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CBottom"/>
            <p:cNvSpPr/>
            <p:nvPr/>
          </p:nvSpPr>
          <p:spPr>
            <a:xfrm>
              <a:off x="127080" y="6603840"/>
              <a:ext cx="406440" cy="1267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ng quickly a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ng slowly a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ng quickly clos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ng slowly a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mov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AnswerNow"/>
          <p:cNvGrpSpPr/>
          <p:nvPr/>
        </p:nvGrpSpPr>
        <p:grpSpPr>
          <a:xfrm>
            <a:off x="3778200" y="5524560"/>
            <a:ext cx="1587600" cy="952560"/>
            <a:chOff x="3778200" y="5524560"/>
            <a:chExt cx="1587600" cy="952560"/>
          </a:xfrm>
        </p:grpSpPr>
        <p:sp>
          <p:nvSpPr>
            <p:cNvPr id="285" name="ANShape"/>
            <p:cNvSpPr/>
            <p:nvPr/>
          </p:nvSpPr>
          <p:spPr>
            <a:xfrm>
              <a:off x="3778200" y="5524560"/>
              <a:ext cx="1587600" cy="952560"/>
            </a:xfrm>
            <a:prstGeom prst="wedgeEllipseCallout">
              <a:avLst>
                <a:gd name="adj1" fmla="val -43750"/>
                <a:gd name="adj2" fmla="val 70000"/>
              </a:avLst>
            </a:prstGeom>
            <a:solidFill>
              <a:srgbClr val="bbe0e3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ANText"/>
            <p:cNvSpPr/>
            <p:nvPr/>
          </p:nvSpPr>
          <p:spPr>
            <a:xfrm>
              <a:off x="3809880" y="5524560"/>
              <a:ext cx="152424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Impact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’s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69800" y="1600200"/>
            <a:ext cx="7545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m-Up: Project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on Graph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t Wheelin’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ance-Time Graphs Work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a position-time graph tell you about an object’s mo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tudent Objective</a:t>
            </a:r>
            <a:br>
              <a:rPr sz="4800"/>
            </a:br>
            <a:fld id="{28205D16-A423-415D-B585-AEF3919357B8}" type="datetime2">
              <a:rPr b="1" lang="en-US" sz="28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31664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ents will be able t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e, describe, and compare the motions of objects using position, speed, and the dir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data given or collected, graph and calculate average speed using distance and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y Question 19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position-time graphs tell you about mo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ease select a Tea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m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m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m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m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m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AnswerNow"/>
          <p:cNvGrpSpPr/>
          <p:nvPr/>
        </p:nvGrpSpPr>
        <p:grpSpPr>
          <a:xfrm>
            <a:off x="3460680" y="6286680"/>
            <a:ext cx="2222640" cy="444240"/>
            <a:chOff x="3460680" y="6286680"/>
            <a:chExt cx="2222640" cy="444240"/>
          </a:xfrm>
        </p:grpSpPr>
        <p:sp>
          <p:nvSpPr>
            <p:cNvPr id="69" name="ANShape"/>
            <p:cNvSpPr/>
            <p:nvPr/>
          </p:nvSpPr>
          <p:spPr>
            <a:xfrm>
              <a:off x="3460680" y="6286680"/>
              <a:ext cx="2222640" cy="444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8c3d91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NText"/>
            <p:cNvSpPr/>
            <p:nvPr/>
          </p:nvSpPr>
          <p:spPr>
            <a:xfrm>
              <a:off x="3460680" y="6286680"/>
              <a:ext cx="222264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??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graph shows an object that i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ing with a constant speed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ing with a constant speed back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mo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eding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5029200" y="1676520"/>
            <a:ext cx="3882240" cy="3569040"/>
            <a:chOff x="5029200" y="1676520"/>
            <a:chExt cx="3882240" cy="3569040"/>
          </a:xfrm>
        </p:grpSpPr>
        <p:sp>
          <p:nvSpPr>
            <p:cNvPr id="74" name=""/>
            <p:cNvSpPr/>
            <p:nvPr/>
          </p:nvSpPr>
          <p:spPr>
            <a:xfrm>
              <a:off x="5589720" y="1676520"/>
              <a:ext cx="0" cy="3437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5131080" y="4884480"/>
              <a:ext cx="37803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048000" y="4877280"/>
              <a:ext cx="229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 (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068720" y="3013200"/>
              <a:ext cx="228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stance (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 flipV="1">
            <a:off x="5622840" y="2209320"/>
            <a:ext cx="2819520" cy="26672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TPChart"/>
          <p:cNvGraphicFramePr/>
          <p:nvPr/>
        </p:nvGraphicFramePr>
        <p:xfrm>
          <a:off x="4495680" y="1650960"/>
          <a:ext cx="449604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50960"/>
                    <a:ext cx="449604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1" name="AnswerNow"/>
          <p:cNvGrpSpPr/>
          <p:nvPr/>
        </p:nvGrpSpPr>
        <p:grpSpPr>
          <a:xfrm>
            <a:off x="2044800" y="6286680"/>
            <a:ext cx="2222280" cy="444240"/>
            <a:chOff x="2044800" y="6286680"/>
            <a:chExt cx="2222280" cy="444240"/>
          </a:xfrm>
        </p:grpSpPr>
        <p:sp>
          <p:nvSpPr>
            <p:cNvPr id="82" name="ANShape"/>
            <p:cNvSpPr/>
            <p:nvPr/>
          </p:nvSpPr>
          <p:spPr>
            <a:xfrm>
              <a:off x="2044800" y="6286680"/>
              <a:ext cx="2222280" cy="444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8c3d91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ANText"/>
            <p:cNvSpPr/>
            <p:nvPr/>
          </p:nvSpPr>
          <p:spPr>
            <a:xfrm>
              <a:off x="2044800" y="6286680"/>
              <a:ext cx="22222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??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graph shows an object that i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ing with a constant speed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ing with a constant speed back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mo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eding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4952880" y="1828800"/>
            <a:ext cx="3882960" cy="3569040"/>
            <a:chOff x="4952880" y="1828800"/>
            <a:chExt cx="3882960" cy="3569040"/>
          </a:xfrm>
        </p:grpSpPr>
        <p:sp>
          <p:nvSpPr>
            <p:cNvPr id="87" name=""/>
            <p:cNvSpPr/>
            <p:nvPr/>
          </p:nvSpPr>
          <p:spPr>
            <a:xfrm>
              <a:off x="5513400" y="1828800"/>
              <a:ext cx="0" cy="3437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5055120" y="5036760"/>
              <a:ext cx="378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72040" y="5029560"/>
              <a:ext cx="229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 (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3992400" y="3165480"/>
              <a:ext cx="228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stance (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5499000" y="4038480"/>
            <a:ext cx="29718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4" name="AnswerNow"/>
          <p:cNvGrpSpPr/>
          <p:nvPr/>
        </p:nvGrpSpPr>
        <p:grpSpPr>
          <a:xfrm>
            <a:off x="2133720" y="6286680"/>
            <a:ext cx="2222280" cy="444240"/>
            <a:chOff x="2133720" y="6286680"/>
            <a:chExt cx="2222280" cy="444240"/>
          </a:xfrm>
        </p:grpSpPr>
        <p:sp>
          <p:nvSpPr>
            <p:cNvPr id="95" name="ANShape"/>
            <p:cNvSpPr/>
            <p:nvPr/>
          </p:nvSpPr>
          <p:spPr>
            <a:xfrm>
              <a:off x="2133720" y="6286680"/>
              <a:ext cx="2222280" cy="444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8c3d91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NText"/>
            <p:cNvSpPr/>
            <p:nvPr/>
          </p:nvSpPr>
          <p:spPr>
            <a:xfrm>
              <a:off x="2133720" y="6286680"/>
              <a:ext cx="22222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??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graph shows an object that i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s forward quickly, speeds up, then backwards and then st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eding up, stopping, slowing down and then sto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ing forward, stopping, moving forward less quickly, and then moving backw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eding up, moving at constant speed, speeding up, and then slowing 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952880" y="1828800"/>
            <a:ext cx="3882960" cy="3569040"/>
            <a:chOff x="4952880" y="1828800"/>
            <a:chExt cx="3882960" cy="3569040"/>
          </a:xfrm>
        </p:grpSpPr>
        <p:sp>
          <p:nvSpPr>
            <p:cNvPr id="100" name=""/>
            <p:cNvSpPr/>
            <p:nvPr/>
          </p:nvSpPr>
          <p:spPr>
            <a:xfrm>
              <a:off x="5513400" y="1828800"/>
              <a:ext cx="0" cy="3437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5055120" y="5036760"/>
              <a:ext cx="378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72040" y="5029560"/>
              <a:ext cx="229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 (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6200000">
              <a:off x="3992400" y="3165480"/>
              <a:ext cx="228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stance (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V="1">
            <a:off x="5546880" y="4191120"/>
            <a:ext cx="549000" cy="83808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95880" y="4191120"/>
            <a:ext cx="838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6918480" y="3809520"/>
            <a:ext cx="853920" cy="3812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7734240" y="3809880"/>
            <a:ext cx="876240" cy="4572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0" name="AnswerNow"/>
          <p:cNvGrpSpPr/>
          <p:nvPr/>
        </p:nvGrpSpPr>
        <p:grpSpPr>
          <a:xfrm>
            <a:off x="2044800" y="6286680"/>
            <a:ext cx="2222280" cy="444240"/>
            <a:chOff x="2044800" y="6286680"/>
            <a:chExt cx="2222280" cy="444240"/>
          </a:xfrm>
        </p:grpSpPr>
        <p:sp>
          <p:nvSpPr>
            <p:cNvPr id="111" name="ANShape"/>
            <p:cNvSpPr/>
            <p:nvPr/>
          </p:nvSpPr>
          <p:spPr>
            <a:xfrm>
              <a:off x="2044800" y="6286680"/>
              <a:ext cx="2222280" cy="444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8c3d91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NText"/>
            <p:cNvSpPr/>
            <p:nvPr/>
          </p:nvSpPr>
          <p:spPr>
            <a:xfrm>
              <a:off x="2044800" y="6286680"/>
              <a:ext cx="22222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??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am Sc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27080" y="1666800"/>
          <a:ext cx="8889840" cy="4556160"/>
        </p:xfrm>
        <a:graphic>
          <a:graphicData uri="http://schemas.openxmlformats.org/drawingml/2006/table">
            <a:tbl>
              <a:tblPr/>
              <a:tblGrid>
                <a:gridCol w="1269720"/>
                <a:gridCol w="3175200"/>
                <a:gridCol w="1269720"/>
                <a:gridCol w="3175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18:24:50Z</dcterms:created>
  <dc:creator>krmihal</dc:creator>
  <dc:description/>
  <dc:language>en-US</dc:language>
  <cp:lastModifiedBy>krmihal</cp:lastModifiedBy>
  <dcterms:modified xsi:type="dcterms:W3CDTF">2010-05-04T18:25:07Z</dcterms:modified>
  <cp:revision>1</cp:revision>
  <dc:subject/>
  <dc:title>Slide 1</dc:title>
</cp:coreProperties>
</file>